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D5A-74B8-47AE-A250-661571B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81E-F69E-49C4-89F7-B9FA3EE9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553-66F7-47B0-AAD4-379AF1C8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A86-2E15-4A0D-9C2F-6D385A57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E46-F1D3-47F7-9535-C920418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693-CA13-42EE-8E03-108748DD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5BD-0582-43EE-9AA2-33FC8C5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AB5-F7FE-4667-B836-38136BB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484-9CEF-428A-ADCD-4F6B9AF6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EE1-045F-4416-B0D8-E2BD7C0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D5-628A-4634-AD73-E8ED0708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A27-E82B-4C91-B322-6C48B8D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537-D412-4560-92F9-81D594D7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1948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048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القيامة ، مَن آمنَ بي يَحيا وإن 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236232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حنُ الذين لنا باكورةُ الرو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ئنُ منتظرين التّبني، إفتداءَ أجسادنا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ذا كان أحدٌ في المسيح فهو خلقٌ 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42:38Z</dcterms:created>
  <dc:creator>SUZANNE.MD</dc:creator>
  <dc:description/>
  <dc:language>en-US</dc:language>
  <cp:lastModifiedBy>HANI SAFI</cp:lastModifiedBy>
  <dcterms:modified xsi:type="dcterms:W3CDTF">2003-04-16T14:08:13Z</dcterms:modified>
  <cp:revision>2</cp:revision>
  <dc:subject/>
  <dc:title>PowerPoint Presentation</dc:title>
</cp:coreProperties>
</file>